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20.png" ContentType="image/png"/>
  <Override PartName="/ppt/media/image19.jpeg" ContentType="image/jpeg"/>
  <Override PartName="/ppt/media/image10.png" ContentType="image/png"/>
  <Override PartName="/ppt/media/image18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17.jpeg" ContentType="image/jpeg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D57A-393A-48AF-A65D-AC5B67FA8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AD5C-14D9-4DF7-849B-F6ABB9AEFE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7092-0B95-49D2-805B-3156B62C30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FFF3-F89E-47ED-8083-2219BBF10D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3E3D-9FBE-4D0E-A8E4-BC708B9308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50A4-F5B3-476F-BC58-4E6EE35B77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FB41-2F96-4E36-9CB2-053A59AB22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C0CA-B708-40FA-86EB-C30328B2DE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FD8B-E1B8-4398-95E4-CCEE97A434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FFCB-AE2D-4E13-AAB3-21E614D885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EE9D-EA3F-4C7A-BE3B-4CA8D2CC0A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D07-1717-482B-A240-9D496F52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775-0CA9-4010-871C-59B75E5C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477-037E-48A4-A222-7C36B261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AF3-AE5E-4C2D-BDBF-ABD977BB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FE2-55CE-495A-B040-A73E57F1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B80-D79E-4A0C-8865-6E836299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BF5-DC68-4E46-B28A-8EF2D32A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484E-847D-4489-AA5E-F945EE07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683-DC03-4830-8E1C-600AB475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725-B51E-41F1-A926-79A3F416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745-0EE0-4072-B9BB-36FEDD9A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0A9-AFB3-4729-9191-44C56B80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1BFF-498B-471F-BEEE-6E1D51FA5E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38480" y="6235560"/>
            <a:ext cx="36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FH Dortmund, Dr. Werner Wetekamp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gi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C3F1-5D58-48D7-8626-08E8EB43F7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130120"/>
            <a:ext cx="8351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P06 – Project Controll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S 2012/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70BD-9B0D-4972-9022-3E1BD4B90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Controlling deals with different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6200" y="1916280"/>
            <a:ext cx="252108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188360" y="342900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 flipV="1">
            <a:off x="3348000" y="2421000"/>
            <a:ext cx="1728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 flipV="1">
            <a:off x="3348000" y="2852280"/>
            <a:ext cx="1728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3348000" y="3213000"/>
            <a:ext cx="1728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4"/>
          <p:cNvSpPr/>
          <p:nvPr/>
        </p:nvSpPr>
        <p:spPr>
          <a:xfrm>
            <a:off x="3348000" y="3716280"/>
            <a:ext cx="1728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"/>
          <p:cNvSpPr/>
          <p:nvPr/>
        </p:nvSpPr>
        <p:spPr>
          <a:xfrm>
            <a:off x="3348000" y="3716280"/>
            <a:ext cx="1728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"/>
          <p:cNvSpPr/>
          <p:nvPr/>
        </p:nvSpPr>
        <p:spPr>
          <a:xfrm>
            <a:off x="3348000" y="3716280"/>
            <a:ext cx="1728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3348000" y="37162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74DC-066E-48A9-BA5B-78D30B5586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Controlling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1"/>
          <a:stretch/>
        </p:blipFill>
        <p:spPr>
          <a:xfrm>
            <a:off x="324000" y="1819440"/>
            <a:ext cx="849600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CDED-6896-4E73-BEBB-13CEAD0F45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Reports in Controll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port is the „surface“ of project controlling on which is vi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 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hieved actual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orec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omparison among th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objects (time, costs, risks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porting can be done standardized and by Project Office or if the project is performed as a unique one also from the project participants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takeholders and project participants have to be defined who need reports and than the content and the level of details must be accordingly determ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the following three pages you see an example of project reporting of RWE Pol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7E55-8BE9-410F-84C9-13EA8E3A6D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Reports in Controlling -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1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634160" cy="46692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102"/>
          <p:cNvGrpSpPr/>
          <p:nvPr/>
        </p:nvGrpSpPr>
        <p:grpSpPr>
          <a:xfrm>
            <a:off x="712800" y="1338120"/>
            <a:ext cx="7534080" cy="360360"/>
            <a:chOff x="712800" y="1338120"/>
            <a:chExt cx="7534080" cy="360360"/>
          </a:xfrm>
        </p:grpSpPr>
        <p:sp>
          <p:nvSpPr>
            <p:cNvPr id="143" name="Rectangle 103"/>
            <p:cNvSpPr/>
            <p:nvPr/>
          </p:nvSpPr>
          <p:spPr>
            <a:xfrm>
              <a:off x="712800" y="1339920"/>
              <a:ext cx="1339200" cy="358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04"/>
            <p:cNvSpPr/>
            <p:nvPr/>
          </p:nvSpPr>
          <p:spPr>
            <a:xfrm>
              <a:off x="2122920" y="1339920"/>
              <a:ext cx="20761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5"/>
            <p:cNvSpPr/>
            <p:nvPr/>
          </p:nvSpPr>
          <p:spPr>
            <a:xfrm>
              <a:off x="4270320" y="1339920"/>
              <a:ext cx="8694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Respo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s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6"/>
            <p:cNvSpPr/>
            <p:nvPr/>
          </p:nvSpPr>
          <p:spPr>
            <a:xfrm>
              <a:off x="5211000" y="1339920"/>
              <a:ext cx="9698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07"/>
            <p:cNvSpPr/>
            <p:nvPr/>
          </p:nvSpPr>
          <p:spPr>
            <a:xfrm>
              <a:off x="6243120" y="1338120"/>
              <a:ext cx="9698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8"/>
            <p:cNvSpPr/>
            <p:nvPr/>
          </p:nvSpPr>
          <p:spPr>
            <a:xfrm>
              <a:off x="7277040" y="1338120"/>
              <a:ext cx="9698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Issues/Ris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33"/>
          <p:cNvGrpSpPr/>
          <p:nvPr/>
        </p:nvGrpSpPr>
        <p:grpSpPr>
          <a:xfrm>
            <a:off x="708120" y="1982880"/>
            <a:ext cx="7576560" cy="449280"/>
            <a:chOff x="708120" y="1982880"/>
            <a:chExt cx="7576560" cy="449280"/>
          </a:xfrm>
        </p:grpSpPr>
        <p:pic>
          <p:nvPicPr>
            <p:cNvPr id="150" name="Picture 11" descr=""/>
            <p:cNvPicPr/>
            <p:nvPr/>
          </p:nvPicPr>
          <p:blipFill>
            <a:blip r:embed="rId2"/>
            <a:stretch/>
          </p:blipFill>
          <p:spPr>
            <a:xfrm>
              <a:off x="712800" y="1982880"/>
              <a:ext cx="7571880" cy="4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49"/>
            <p:cNvSpPr/>
            <p:nvPr/>
          </p:nvSpPr>
          <p:spPr>
            <a:xfrm>
              <a:off x="4270320" y="1998720"/>
              <a:ext cx="8694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r>
                <a:rPr b="1" lang="cs-CZ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</a:rPr>
                <a:t>F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50"/>
            <p:cNvSpPr/>
            <p:nvPr/>
          </p:nvSpPr>
          <p:spPr>
            <a:xfrm>
              <a:off x="5533920" y="1998720"/>
              <a:ext cx="32508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1"/>
            <p:cNvSpPr/>
            <p:nvPr/>
          </p:nvSpPr>
          <p:spPr>
            <a:xfrm>
              <a:off x="5859360" y="199872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2"/>
            <p:cNvSpPr/>
            <p:nvPr/>
          </p:nvSpPr>
          <p:spPr>
            <a:xfrm>
              <a:off x="6253200" y="1998720"/>
              <a:ext cx="32328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53"/>
            <p:cNvSpPr/>
            <p:nvPr/>
          </p:nvSpPr>
          <p:spPr>
            <a:xfrm>
              <a:off x="6576840" y="199872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4"/>
            <p:cNvSpPr/>
            <p:nvPr/>
          </p:nvSpPr>
          <p:spPr>
            <a:xfrm>
              <a:off x="6900840" y="1998720"/>
              <a:ext cx="3218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5"/>
            <p:cNvSpPr/>
            <p:nvPr/>
          </p:nvSpPr>
          <p:spPr>
            <a:xfrm>
              <a:off x="7294320" y="1998720"/>
              <a:ext cx="32364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6"/>
            <p:cNvSpPr/>
            <p:nvPr/>
          </p:nvSpPr>
          <p:spPr>
            <a:xfrm>
              <a:off x="7618320" y="199872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7"/>
            <p:cNvSpPr/>
            <p:nvPr/>
          </p:nvSpPr>
          <p:spPr>
            <a:xfrm>
              <a:off x="7942320" y="1998720"/>
              <a:ext cx="32328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0" tIns="38520" bIns="7704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8"/>
            <p:cNvSpPr/>
            <p:nvPr/>
          </p:nvSpPr>
          <p:spPr>
            <a:xfrm>
              <a:off x="5214960" y="1997280"/>
              <a:ext cx="32184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15"/>
            <p:cNvSpPr/>
            <p:nvPr/>
          </p:nvSpPr>
          <p:spPr>
            <a:xfrm>
              <a:off x="708120" y="1987920"/>
              <a:ext cx="1339560" cy="430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SEO </a:t>
              </a:r>
              <a:r>
                <a:rPr b="1" lang="cs-CZ" sz="900" spc="-1" strike="noStrike">
                  <a:solidFill>
                    <a:srgbClr val="000000"/>
                  </a:solidFill>
                  <a:latin typeface="Arial"/>
                </a:rPr>
                <a:t>(Sales Efficiency Optimizatio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6"/>
            <p:cNvSpPr/>
            <p:nvPr/>
          </p:nvSpPr>
          <p:spPr>
            <a:xfrm>
              <a:off x="2117520" y="1987920"/>
              <a:ext cx="20761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Sales and Customer Service optimization in RWE Polsk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34"/>
          <p:cNvGrpSpPr/>
          <p:nvPr/>
        </p:nvGrpSpPr>
        <p:grpSpPr>
          <a:xfrm>
            <a:off x="714240" y="3219480"/>
            <a:ext cx="7575480" cy="452520"/>
            <a:chOff x="714240" y="3219480"/>
            <a:chExt cx="7575480" cy="452520"/>
          </a:xfrm>
        </p:grpSpPr>
        <p:pic>
          <p:nvPicPr>
            <p:cNvPr id="164" name="Picture 10" descr=""/>
            <p:cNvPicPr/>
            <p:nvPr/>
          </p:nvPicPr>
          <p:blipFill>
            <a:blip r:embed="rId3"/>
            <a:stretch/>
          </p:blipFill>
          <p:spPr>
            <a:xfrm>
              <a:off x="717480" y="3219480"/>
              <a:ext cx="7572240" cy="4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60"/>
            <p:cNvSpPr/>
            <p:nvPr/>
          </p:nvSpPr>
          <p:spPr>
            <a:xfrm>
              <a:off x="4276440" y="3241800"/>
              <a:ext cx="8701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1"/>
            <p:cNvSpPr/>
            <p:nvPr/>
          </p:nvSpPr>
          <p:spPr>
            <a:xfrm>
              <a:off x="5540400" y="3241800"/>
              <a:ext cx="3254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>
              <a:off x="5865840" y="324180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3"/>
            <p:cNvSpPr/>
            <p:nvPr/>
          </p:nvSpPr>
          <p:spPr>
            <a:xfrm>
              <a:off x="6259320" y="3241800"/>
              <a:ext cx="32400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4"/>
            <p:cNvSpPr/>
            <p:nvPr/>
          </p:nvSpPr>
          <p:spPr>
            <a:xfrm>
              <a:off x="6583320" y="324180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5"/>
            <p:cNvSpPr/>
            <p:nvPr/>
          </p:nvSpPr>
          <p:spPr>
            <a:xfrm>
              <a:off x="6906960" y="3241800"/>
              <a:ext cx="32256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6"/>
            <p:cNvSpPr/>
            <p:nvPr/>
          </p:nvSpPr>
          <p:spPr>
            <a:xfrm>
              <a:off x="7300800" y="3241800"/>
              <a:ext cx="32400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7"/>
            <p:cNvSpPr/>
            <p:nvPr/>
          </p:nvSpPr>
          <p:spPr>
            <a:xfrm>
              <a:off x="7624800" y="324180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7948440" y="324180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0" tIns="38520" bIns="7704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9"/>
            <p:cNvSpPr/>
            <p:nvPr/>
          </p:nvSpPr>
          <p:spPr>
            <a:xfrm>
              <a:off x="5221080" y="3240000"/>
              <a:ext cx="32220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17"/>
            <p:cNvSpPr/>
            <p:nvPr/>
          </p:nvSpPr>
          <p:spPr>
            <a:xfrm>
              <a:off x="714240" y="3230640"/>
              <a:ext cx="1339920" cy="430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Gas power pl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18"/>
            <p:cNvSpPr/>
            <p:nvPr/>
          </p:nvSpPr>
          <p:spPr>
            <a:xfrm>
              <a:off x="2124000" y="3241800"/>
              <a:ext cx="20764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Building 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35"/>
          <p:cNvGrpSpPr/>
          <p:nvPr/>
        </p:nvGrpSpPr>
        <p:grpSpPr>
          <a:xfrm>
            <a:off x="723960" y="3919680"/>
            <a:ext cx="7572240" cy="452160"/>
            <a:chOff x="723960" y="3919680"/>
            <a:chExt cx="7572240" cy="452160"/>
          </a:xfrm>
        </p:grpSpPr>
        <p:pic>
          <p:nvPicPr>
            <p:cNvPr id="178" name="Picture 7" descr=""/>
            <p:cNvPicPr/>
            <p:nvPr/>
          </p:nvPicPr>
          <p:blipFill>
            <a:blip r:embed="rId4"/>
            <a:stretch/>
          </p:blipFill>
          <p:spPr>
            <a:xfrm>
              <a:off x="723960" y="3919680"/>
              <a:ext cx="7572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Rectangle 70"/>
            <p:cNvSpPr/>
            <p:nvPr/>
          </p:nvSpPr>
          <p:spPr>
            <a:xfrm>
              <a:off x="4286160" y="3941640"/>
              <a:ext cx="8697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5549760" y="3930840"/>
              <a:ext cx="3254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5875200" y="393084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6269040" y="3930840"/>
              <a:ext cx="32364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6592680" y="393084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6916680" y="3930840"/>
              <a:ext cx="3222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7310160" y="3930840"/>
              <a:ext cx="32400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7"/>
            <p:cNvSpPr/>
            <p:nvPr/>
          </p:nvSpPr>
          <p:spPr>
            <a:xfrm>
              <a:off x="7634160" y="393084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8"/>
            <p:cNvSpPr/>
            <p:nvPr/>
          </p:nvSpPr>
          <p:spPr>
            <a:xfrm>
              <a:off x="7958160" y="393084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0" tIns="38520" bIns="7704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9"/>
            <p:cNvSpPr/>
            <p:nvPr/>
          </p:nvSpPr>
          <p:spPr>
            <a:xfrm>
              <a:off x="5230800" y="3929040"/>
              <a:ext cx="32220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9"/>
            <p:cNvSpPr/>
            <p:nvPr/>
          </p:nvSpPr>
          <p:spPr>
            <a:xfrm>
              <a:off x="723960" y="3930840"/>
              <a:ext cx="1339560" cy="430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E-mobi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20"/>
            <p:cNvSpPr/>
            <p:nvPr/>
          </p:nvSpPr>
          <p:spPr>
            <a:xfrm>
              <a:off x="2133360" y="3930840"/>
              <a:ext cx="20764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Implementation of power supply colum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37"/>
          <p:cNvGrpSpPr/>
          <p:nvPr/>
        </p:nvGrpSpPr>
        <p:grpSpPr>
          <a:xfrm>
            <a:off x="727200" y="5240160"/>
            <a:ext cx="7878240" cy="460080"/>
            <a:chOff x="727200" y="5240160"/>
            <a:chExt cx="7878240" cy="460080"/>
          </a:xfrm>
        </p:grpSpPr>
        <p:pic>
          <p:nvPicPr>
            <p:cNvPr id="192" name="Picture 9" descr=""/>
            <p:cNvPicPr/>
            <p:nvPr/>
          </p:nvPicPr>
          <p:blipFill>
            <a:blip r:embed="rId5"/>
            <a:stretch/>
          </p:blipFill>
          <p:spPr>
            <a:xfrm>
              <a:off x="728640" y="5240160"/>
              <a:ext cx="7571880" cy="4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91"/>
            <p:cNvSpPr/>
            <p:nvPr/>
          </p:nvSpPr>
          <p:spPr>
            <a:xfrm>
              <a:off x="4309920" y="5270040"/>
              <a:ext cx="8697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92"/>
            <p:cNvSpPr/>
            <p:nvPr/>
          </p:nvSpPr>
          <p:spPr>
            <a:xfrm>
              <a:off x="5562360" y="5248080"/>
              <a:ext cx="325080" cy="4302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93"/>
            <p:cNvSpPr/>
            <p:nvPr/>
          </p:nvSpPr>
          <p:spPr>
            <a:xfrm>
              <a:off x="5887800" y="524808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94"/>
            <p:cNvSpPr/>
            <p:nvPr/>
          </p:nvSpPr>
          <p:spPr>
            <a:xfrm>
              <a:off x="6281640" y="5248080"/>
              <a:ext cx="323640" cy="430200"/>
            </a:xfrm>
            <a:prstGeom prst="rect">
              <a:avLst/>
            </a:prstGeom>
            <a:solidFill>
              <a:srgbClr val="66ff33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95"/>
            <p:cNvSpPr/>
            <p:nvPr/>
          </p:nvSpPr>
          <p:spPr>
            <a:xfrm>
              <a:off x="6605640" y="5248080"/>
              <a:ext cx="32328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96"/>
            <p:cNvSpPr/>
            <p:nvPr/>
          </p:nvSpPr>
          <p:spPr>
            <a:xfrm>
              <a:off x="6929280" y="5248080"/>
              <a:ext cx="3218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97"/>
            <p:cNvSpPr/>
            <p:nvPr/>
          </p:nvSpPr>
          <p:spPr>
            <a:xfrm>
              <a:off x="7323120" y="5248080"/>
              <a:ext cx="32328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98"/>
            <p:cNvSpPr/>
            <p:nvPr/>
          </p:nvSpPr>
          <p:spPr>
            <a:xfrm>
              <a:off x="7646760" y="5248080"/>
              <a:ext cx="323640" cy="4302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99"/>
            <p:cNvSpPr/>
            <p:nvPr/>
          </p:nvSpPr>
          <p:spPr>
            <a:xfrm>
              <a:off x="7970760" y="5248080"/>
              <a:ext cx="32328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0" tIns="38520" bIns="7704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00"/>
            <p:cNvSpPr/>
            <p:nvPr/>
          </p:nvSpPr>
          <p:spPr>
            <a:xfrm>
              <a:off x="5243400" y="5246280"/>
              <a:ext cx="3218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23"/>
            <p:cNvSpPr/>
            <p:nvPr/>
          </p:nvSpPr>
          <p:spPr>
            <a:xfrm>
              <a:off x="727200" y="5243040"/>
              <a:ext cx="1339560" cy="430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RG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24"/>
            <p:cNvSpPr/>
            <p:nvPr/>
          </p:nvSpPr>
          <p:spPr>
            <a:xfrm>
              <a:off x="2136600" y="5243040"/>
              <a:ext cx="20761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ilding of a new credit risk management 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26"/>
            <p:cNvSpPr/>
            <p:nvPr/>
          </p:nvSpPr>
          <p:spPr>
            <a:xfrm>
              <a:off x="4933800" y="5384520"/>
              <a:ext cx="36716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pended on January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36"/>
          <p:cNvGrpSpPr/>
          <p:nvPr/>
        </p:nvGrpSpPr>
        <p:grpSpPr>
          <a:xfrm>
            <a:off x="723960" y="4587840"/>
            <a:ext cx="7897680" cy="466920"/>
            <a:chOff x="723960" y="4587840"/>
            <a:chExt cx="7897680" cy="466920"/>
          </a:xfrm>
        </p:grpSpPr>
        <p:pic>
          <p:nvPicPr>
            <p:cNvPr id="207" name="Picture 8" descr=""/>
            <p:cNvPicPr/>
            <p:nvPr/>
          </p:nvPicPr>
          <p:blipFill>
            <a:blip r:embed="rId6"/>
            <a:stretch/>
          </p:blipFill>
          <p:spPr>
            <a:xfrm>
              <a:off x="734760" y="4587840"/>
              <a:ext cx="75726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80"/>
            <p:cNvSpPr/>
            <p:nvPr/>
          </p:nvSpPr>
          <p:spPr>
            <a:xfrm>
              <a:off x="4294080" y="4624560"/>
              <a:ext cx="8701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1"/>
            <p:cNvSpPr/>
            <p:nvPr/>
          </p:nvSpPr>
          <p:spPr>
            <a:xfrm>
              <a:off x="5557680" y="4602240"/>
              <a:ext cx="3254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2"/>
            <p:cNvSpPr/>
            <p:nvPr/>
          </p:nvSpPr>
          <p:spPr>
            <a:xfrm>
              <a:off x="5883120" y="460224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3"/>
            <p:cNvSpPr/>
            <p:nvPr/>
          </p:nvSpPr>
          <p:spPr>
            <a:xfrm>
              <a:off x="6276960" y="4602240"/>
              <a:ext cx="32364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4"/>
            <p:cNvSpPr/>
            <p:nvPr/>
          </p:nvSpPr>
          <p:spPr>
            <a:xfrm>
              <a:off x="6600600" y="460224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5"/>
            <p:cNvSpPr/>
            <p:nvPr/>
          </p:nvSpPr>
          <p:spPr>
            <a:xfrm>
              <a:off x="6924600" y="4602240"/>
              <a:ext cx="3222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6"/>
            <p:cNvSpPr/>
            <p:nvPr/>
          </p:nvSpPr>
          <p:spPr>
            <a:xfrm>
              <a:off x="7318080" y="4602240"/>
              <a:ext cx="32400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7"/>
            <p:cNvSpPr/>
            <p:nvPr/>
          </p:nvSpPr>
          <p:spPr>
            <a:xfrm>
              <a:off x="7642080" y="460224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88"/>
            <p:cNvSpPr/>
            <p:nvPr/>
          </p:nvSpPr>
          <p:spPr>
            <a:xfrm>
              <a:off x="7966080" y="460224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0" tIns="38520" bIns="7704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9"/>
            <p:cNvSpPr/>
            <p:nvPr/>
          </p:nvSpPr>
          <p:spPr>
            <a:xfrm>
              <a:off x="5238720" y="4600440"/>
              <a:ext cx="322200" cy="430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21"/>
            <p:cNvSpPr/>
            <p:nvPr/>
          </p:nvSpPr>
          <p:spPr>
            <a:xfrm>
              <a:off x="723960" y="4603680"/>
              <a:ext cx="1339560" cy="430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EC 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 / Bioma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2"/>
            <p:cNvSpPr/>
            <p:nvPr/>
          </p:nvSpPr>
          <p:spPr>
            <a:xfrm>
              <a:off x="2133360" y="4603680"/>
              <a:ext cx="20764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Modernisation of EC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27"/>
            <p:cNvSpPr/>
            <p:nvPr/>
          </p:nvSpPr>
          <p:spPr>
            <a:xfrm>
              <a:off x="4949640" y="4697280"/>
              <a:ext cx="36720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pended in M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32"/>
          <p:cNvGrpSpPr/>
          <p:nvPr/>
        </p:nvGrpSpPr>
        <p:grpSpPr>
          <a:xfrm>
            <a:off x="714240" y="2576520"/>
            <a:ext cx="7575480" cy="476280"/>
            <a:chOff x="714240" y="2576520"/>
            <a:chExt cx="7575480" cy="476280"/>
          </a:xfrm>
        </p:grpSpPr>
        <p:pic>
          <p:nvPicPr>
            <p:cNvPr id="222" name="Picture 12" descr=""/>
            <p:cNvPicPr/>
            <p:nvPr/>
          </p:nvPicPr>
          <p:blipFill>
            <a:blip r:embed="rId7"/>
            <a:stretch/>
          </p:blipFill>
          <p:spPr>
            <a:xfrm>
              <a:off x="717480" y="2576520"/>
              <a:ext cx="7572240" cy="4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31"/>
            <p:cNvSpPr/>
            <p:nvPr/>
          </p:nvSpPr>
          <p:spPr>
            <a:xfrm>
              <a:off x="5537160" y="2592360"/>
              <a:ext cx="3254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2"/>
            <p:cNvSpPr/>
            <p:nvPr/>
          </p:nvSpPr>
          <p:spPr>
            <a:xfrm>
              <a:off x="5862600" y="259236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3"/>
            <p:cNvSpPr/>
            <p:nvPr/>
          </p:nvSpPr>
          <p:spPr>
            <a:xfrm>
              <a:off x="6256080" y="2592360"/>
              <a:ext cx="32400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4"/>
            <p:cNvSpPr/>
            <p:nvPr/>
          </p:nvSpPr>
          <p:spPr>
            <a:xfrm>
              <a:off x="6580080" y="259236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0" tIns="38520" bIns="7704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5"/>
            <p:cNvSpPr/>
            <p:nvPr/>
          </p:nvSpPr>
          <p:spPr>
            <a:xfrm>
              <a:off x="6904080" y="2592360"/>
              <a:ext cx="3222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7297560" y="2592360"/>
              <a:ext cx="324000" cy="430200"/>
            </a:xfrm>
            <a:prstGeom prst="rect">
              <a:avLst/>
            </a:prstGeom>
            <a:solidFill>
              <a:srgbClr val="66ff33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37"/>
            <p:cNvSpPr/>
            <p:nvPr/>
          </p:nvSpPr>
          <p:spPr>
            <a:xfrm>
              <a:off x="7621560" y="259236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38"/>
            <p:cNvSpPr/>
            <p:nvPr/>
          </p:nvSpPr>
          <p:spPr>
            <a:xfrm>
              <a:off x="7945200" y="259236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0" tIns="38520" bIns="7704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90"/>
            <p:cNvSpPr/>
            <p:nvPr/>
          </p:nvSpPr>
          <p:spPr>
            <a:xfrm>
              <a:off x="5216400" y="2590920"/>
              <a:ext cx="324000" cy="430200"/>
            </a:xfrm>
            <a:prstGeom prst="rect">
              <a:avLst/>
            </a:prstGeom>
            <a:solidFill>
              <a:srgbClr val="66ff33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29"/>
            <p:cNvSpPr/>
            <p:nvPr/>
          </p:nvSpPr>
          <p:spPr>
            <a:xfrm>
              <a:off x="4278240" y="2622600"/>
              <a:ext cx="8697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</a:rPr>
                <a:t>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30"/>
            <p:cNvSpPr/>
            <p:nvPr/>
          </p:nvSpPr>
          <p:spPr>
            <a:xfrm>
              <a:off x="714240" y="2598840"/>
              <a:ext cx="1339920" cy="430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SWORD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31"/>
            <p:cNvSpPr/>
            <p:nvPr/>
          </p:nvSpPr>
          <p:spPr>
            <a:xfrm>
              <a:off x="2125440" y="2611440"/>
              <a:ext cx="20764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Closing of the 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 planned untill the end of Sept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5907-F8CE-4BA2-A745-49526AE350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Reports in Controlling -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4572000" y="3624120"/>
            <a:ext cx="384480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500"/>
              </a:spcAft>
              <a:tabLst>
                <a:tab algn="l" pos="0"/>
                <a:tab algn="l" pos="266760"/>
                <a:tab algn="l" pos="534960"/>
                <a:tab algn="l" pos="542880"/>
                <a:tab algn="l" pos="809640"/>
                <a:tab algn="l" pos="107640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755640" y="3575160"/>
            <a:ext cx="378792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500"/>
              </a:spcAft>
              <a:tabLst>
                <a:tab algn="l" pos="0"/>
                <a:tab algn="l" pos="266760"/>
                <a:tab algn="l" pos="534960"/>
                <a:tab algn="l" pos="542880"/>
                <a:tab algn="l" pos="809640"/>
                <a:tab algn="l" pos="107640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543560" y="1233360"/>
            <a:ext cx="384480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500"/>
              </a:spcAft>
              <a:tabLst>
                <a:tab algn="l" pos="0"/>
                <a:tab algn="l" pos="266760"/>
                <a:tab algn="l" pos="534960"/>
                <a:tab algn="l" pos="542880"/>
                <a:tab algn="l" pos="809640"/>
                <a:tab algn="l" pos="107640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612720" y="1512720"/>
            <a:ext cx="378792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500"/>
              </a:spcAft>
              <a:tabLst>
                <a:tab algn="l" pos="0"/>
                <a:tab algn="l" pos="266760"/>
                <a:tab algn="l" pos="534960"/>
                <a:tab algn="l" pos="542880"/>
                <a:tab algn="l" pos="809640"/>
                <a:tab algn="l" pos="107640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755640" y="1233360"/>
            <a:ext cx="37879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8"/>
          <p:cNvSpPr/>
          <p:nvPr/>
        </p:nvSpPr>
        <p:spPr>
          <a:xfrm>
            <a:off x="755640" y="3575160"/>
            <a:ext cx="7632720" cy="1440"/>
          </a:xfrm>
          <a:prstGeom prst="line">
            <a:avLst/>
          </a:prstGeom>
          <a:ln w="9360">
            <a:solidFill>
              <a:srgbClr val="0066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9"/>
          <p:cNvSpPr/>
          <p:nvPr/>
        </p:nvSpPr>
        <p:spPr>
          <a:xfrm>
            <a:off x="755640" y="5842080"/>
            <a:ext cx="7632720" cy="14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0"/>
          <p:cNvSpPr/>
          <p:nvPr/>
        </p:nvSpPr>
        <p:spPr>
          <a:xfrm>
            <a:off x="755640" y="1233360"/>
            <a:ext cx="1440" cy="46087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4543560" y="1233360"/>
            <a:ext cx="1440" cy="4608720"/>
          </a:xfrm>
          <a:prstGeom prst="line">
            <a:avLst/>
          </a:prstGeom>
          <a:ln w="9360">
            <a:solidFill>
              <a:srgbClr val="0066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8172360" y="1233360"/>
            <a:ext cx="1800" cy="234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3"/>
          <p:cNvSpPr/>
          <p:nvPr/>
        </p:nvSpPr>
        <p:spPr>
          <a:xfrm>
            <a:off x="4543560" y="1233360"/>
            <a:ext cx="3844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>
            <a:off x="8388360" y="3575160"/>
            <a:ext cx="1440" cy="2266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4572000" y="1233360"/>
            <a:ext cx="3816360" cy="2305080"/>
          </a:xfrm>
          <a:prstGeom prst="rect">
            <a:avLst/>
          </a:prstGeom>
          <a:blipFill rotWithShape="0">
            <a:blip r:embed="rId1">
              <a:alphaModFix amt="9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9"/>
          <p:cNvSpPr/>
          <p:nvPr/>
        </p:nvSpPr>
        <p:spPr>
          <a:xfrm>
            <a:off x="8459640" y="1522440"/>
            <a:ext cx="179640" cy="179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0"/>
          <p:cNvSpPr/>
          <p:nvPr/>
        </p:nvSpPr>
        <p:spPr>
          <a:xfrm>
            <a:off x="8459640" y="2122560"/>
            <a:ext cx="179640" cy="179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1"/>
          <p:cNvSpPr/>
          <p:nvPr/>
        </p:nvSpPr>
        <p:spPr>
          <a:xfrm>
            <a:off x="8459640" y="3322800"/>
            <a:ext cx="179640" cy="1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32"/>
          <p:cNvSpPr/>
          <p:nvPr/>
        </p:nvSpPr>
        <p:spPr>
          <a:xfrm>
            <a:off x="8459640" y="2722680"/>
            <a:ext cx="17964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3"/>
          <p:cNvSpPr/>
          <p:nvPr/>
        </p:nvSpPr>
        <p:spPr>
          <a:xfrm>
            <a:off x="8459640" y="3870360"/>
            <a:ext cx="179640" cy="179280"/>
          </a:xfrm>
          <a:prstGeom prst="ellips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4"/>
          <p:cNvSpPr/>
          <p:nvPr/>
        </p:nvSpPr>
        <p:spPr>
          <a:xfrm>
            <a:off x="8245440" y="4114800"/>
            <a:ext cx="647640" cy="2462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OS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5"/>
          <p:cNvSpPr/>
          <p:nvPr/>
        </p:nvSpPr>
        <p:spPr>
          <a:xfrm>
            <a:off x="8244000" y="3551400"/>
            <a:ext cx="647640" cy="2462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6"/>
          <p:cNvSpPr/>
          <p:nvPr/>
        </p:nvSpPr>
        <p:spPr>
          <a:xfrm>
            <a:off x="8244000" y="2975040"/>
            <a:ext cx="647640" cy="2462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7"/>
          <p:cNvSpPr/>
          <p:nvPr/>
        </p:nvSpPr>
        <p:spPr>
          <a:xfrm>
            <a:off x="8244000" y="2362320"/>
            <a:ext cx="647640" cy="2462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8"/>
          <p:cNvSpPr/>
          <p:nvPr/>
        </p:nvSpPr>
        <p:spPr>
          <a:xfrm>
            <a:off x="8244000" y="1751040"/>
            <a:ext cx="647640" cy="2462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0"/>
          <p:cNvSpPr/>
          <p:nvPr/>
        </p:nvSpPr>
        <p:spPr>
          <a:xfrm>
            <a:off x="3780000" y="3249720"/>
            <a:ext cx="610920" cy="61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12</a:t>
            </a:r>
            <a:br>
              <a:rPr sz="800"/>
            </a:b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RWE Stoen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4"/>
          <p:cNvSpPr/>
          <p:nvPr/>
        </p:nvSpPr>
        <p:spPr>
          <a:xfrm>
            <a:off x="4140360" y="3084480"/>
            <a:ext cx="468000" cy="468360"/>
          </a:xfrm>
          <a:prstGeom prst="ellipse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80002A</a:t>
            </a:r>
            <a:br>
              <a:rPr sz="800"/>
            </a:b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WF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48"/>
          <p:cNvSpPr/>
          <p:nvPr/>
        </p:nvSpPr>
        <p:spPr>
          <a:xfrm>
            <a:off x="7416720" y="3479760"/>
            <a:ext cx="684360" cy="682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33</a:t>
            </a:r>
            <a:br>
              <a:rPr sz="800"/>
            </a:b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SAP IS-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0"/>
          <p:cNvSpPr/>
          <p:nvPr/>
        </p:nvSpPr>
        <p:spPr>
          <a:xfrm>
            <a:off x="6300720" y="1895400"/>
            <a:ext cx="719280" cy="719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800</a:t>
            </a: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37</a:t>
            </a:r>
            <a:br>
              <a:rPr sz="800"/>
            </a:b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SE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1"/>
          <p:cNvSpPr/>
          <p:nvPr/>
        </p:nvSpPr>
        <p:spPr>
          <a:xfrm>
            <a:off x="4211640" y="4991040"/>
            <a:ext cx="574560" cy="576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800</a:t>
            </a: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38</a:t>
            </a:r>
            <a:br>
              <a:rPr sz="800"/>
            </a:b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2"/>
          <p:cNvSpPr/>
          <p:nvPr/>
        </p:nvSpPr>
        <p:spPr>
          <a:xfrm>
            <a:off x="5076720" y="3551400"/>
            <a:ext cx="574920" cy="57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800</a:t>
            </a: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39</a:t>
            </a:r>
            <a:br>
              <a:rPr sz="800"/>
            </a:b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E-mo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3"/>
          <p:cNvSpPr/>
          <p:nvPr/>
        </p:nvSpPr>
        <p:spPr>
          <a:xfrm>
            <a:off x="7020000" y="1895400"/>
            <a:ext cx="647640" cy="647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800</a:t>
            </a: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40</a:t>
            </a:r>
            <a:br>
              <a:rPr sz="800"/>
            </a:b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Gas Pow. Pl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5"/>
          <p:cNvSpPr/>
          <p:nvPr/>
        </p:nvSpPr>
        <p:spPr>
          <a:xfrm>
            <a:off x="6804000" y="2903400"/>
            <a:ext cx="647640" cy="648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80043 EC Będzin Biom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6"/>
          <p:cNvSpPr/>
          <p:nvPr/>
        </p:nvSpPr>
        <p:spPr>
          <a:xfrm>
            <a:off x="6370560" y="2759040"/>
            <a:ext cx="4334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800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RG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 rot="16200000">
            <a:off x="-735840" y="329328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trategic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8"/>
          <p:cNvSpPr/>
          <p:nvPr/>
        </p:nvSpPr>
        <p:spPr>
          <a:xfrm>
            <a:off x="3348000" y="590544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Urg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9"/>
          <p:cNvSpPr/>
          <p:nvPr/>
        </p:nvSpPr>
        <p:spPr>
          <a:xfrm>
            <a:off x="7740720" y="5977080"/>
            <a:ext cx="7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66cc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0"/>
          <p:cNvSpPr/>
          <p:nvPr/>
        </p:nvSpPr>
        <p:spPr>
          <a:xfrm>
            <a:off x="612720" y="5977080"/>
            <a:ext cx="7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66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1"/>
          <p:cNvSpPr/>
          <p:nvPr/>
        </p:nvSpPr>
        <p:spPr>
          <a:xfrm>
            <a:off x="-108000" y="1152360"/>
            <a:ext cx="7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66cc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2"/>
          <p:cNvSpPr/>
          <p:nvPr/>
        </p:nvSpPr>
        <p:spPr>
          <a:xfrm>
            <a:off x="5921280" y="3143160"/>
            <a:ext cx="576360" cy="574920"/>
          </a:xfrm>
          <a:prstGeom prst="ellipse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80044</a:t>
            </a:r>
            <a:br>
              <a:rPr sz="800"/>
            </a:b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I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met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3"/>
          <p:cNvSpPr/>
          <p:nvPr/>
        </p:nvSpPr>
        <p:spPr>
          <a:xfrm>
            <a:off x="5796000" y="1944720"/>
            <a:ext cx="720720" cy="719280"/>
          </a:xfrm>
          <a:prstGeom prst="ellipse">
            <a:avLst/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80045</a:t>
            </a:r>
            <a:br>
              <a:rPr sz="800"/>
            </a:b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4"/>
          <p:cNvSpPr/>
          <p:nvPr/>
        </p:nvSpPr>
        <p:spPr>
          <a:xfrm>
            <a:off x="3971880" y="4067280"/>
            <a:ext cx="4334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800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Virtualisation</a:t>
            </a:r>
            <a:br>
              <a:rPr sz="800"/>
            </a:b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of serv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65"/>
          <p:cNvSpPr/>
          <p:nvPr/>
        </p:nvSpPr>
        <p:spPr>
          <a:xfrm>
            <a:off x="4645080" y="2593800"/>
            <a:ext cx="576360" cy="57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800</a:t>
            </a: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47</a:t>
            </a:r>
            <a:br>
              <a:rPr sz="800"/>
            </a:b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CRM </a:t>
            </a:r>
            <a:br>
              <a:rPr sz="800"/>
            </a:b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43B1-4AAC-47BB-A5F9-340E234C04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Reports in Controlling - Examp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12"/>
          <p:cNvGraphicFramePr/>
          <p:nvPr/>
        </p:nvGraphicFramePr>
        <p:xfrm>
          <a:off x="395280" y="2060640"/>
          <a:ext cx="822960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82296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B171-6DDB-4ECE-8B52-1A1595370A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Reports in Controll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"/>
          <p:cNvPicPr/>
          <p:nvPr/>
        </p:nvPicPr>
        <p:blipFill>
          <a:blip r:embed="rId1"/>
          <a:stretch/>
        </p:blipFill>
        <p:spPr>
          <a:xfrm>
            <a:off x="878040" y="1700280"/>
            <a:ext cx="72943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BC52-DA0E-4253-8AD0-2D67AB8505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. Controlling is done continuously and in 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826920" y="1546200"/>
            <a:ext cx="7705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3D60-049D-4E49-8214-0AC25D7C50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Reports in Controlling - Cockp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" descr="C:\4_Uni\Selfmanagement\imagesCA2JP7NZ.jpg"/>
          <p:cNvPicPr/>
          <p:nvPr/>
        </p:nvPicPr>
        <p:blipFill>
          <a:blip r:embed="rId1"/>
          <a:stretch/>
        </p:blipFill>
        <p:spPr>
          <a:xfrm>
            <a:off x="684360" y="1268280"/>
            <a:ext cx="4116240" cy="3084480"/>
          </a:xfrm>
          <a:prstGeom prst="rect">
            <a:avLst/>
          </a:prstGeom>
          <a:ln w="0">
            <a:noFill/>
          </a:ln>
        </p:spPr>
      </p:pic>
      <p:sp>
        <p:nvSpPr>
          <p:cNvPr id="304" name="Textfeld 2"/>
          <p:cNvSpPr/>
          <p:nvPr/>
        </p:nvSpPr>
        <p:spPr>
          <a:xfrm>
            <a:off x="5364000" y="1844640"/>
            <a:ext cx="35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want to fly to NY, to walk in a foreign city, to go through a project: you have to control what you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 the cockpit, if you start something new or difficult or dangerou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feld 10"/>
          <p:cNvSpPr/>
          <p:nvPr/>
        </p:nvSpPr>
        <p:spPr>
          <a:xfrm>
            <a:off x="574560" y="4352760"/>
            <a:ext cx="71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need if you 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need to manage a Call Cen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need to manage a project (for example to implement a 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9CBA-FBBF-4788-BD86-946D1F6E98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Controlling is done by the dedicated group and by „everybody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9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20108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8012-65EB-4354-8EB2-B82F9D9EA0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1268280"/>
            <a:ext cx="7272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1116000" y="227664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826920" y="2460600"/>
            <a:ext cx="675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behind 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ision 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ct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ned Value Management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7525-BFF0-4CAE-9FED-B8FEDC8039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But Controlling is more and happens also in the initiation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8" descr=""/>
          <p:cNvPicPr/>
          <p:nvPr/>
        </p:nvPicPr>
        <p:blipFill>
          <a:blip r:embed="rId1"/>
          <a:stretch/>
        </p:blipFill>
        <p:spPr>
          <a:xfrm>
            <a:off x="3851280" y="2425680"/>
            <a:ext cx="4392720" cy="24433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3240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ng the business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ing the budgets and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ing the risks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all plans which will be later object of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51E2-905A-49FF-9693-DA958E16CD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ntrolling starts with decision tak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457200" y="2470320"/>
            <a:ext cx="8229600" cy="8143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0"/>
          <p:cNvSpPr/>
          <p:nvPr/>
        </p:nvSpPr>
        <p:spPr>
          <a:xfrm>
            <a:off x="327240" y="2125800"/>
            <a:ext cx="53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BOK, Chapter 4.1.1.2, Develop Project Char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395280" y="3500280"/>
            <a:ext cx="849780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ea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eginning we need a BC to evaluate the whol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 BC the decision has to be taken to go or to 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ssumptions are taken in the BC they are binding for the project plan to avoid „beautiful BC“ and „horrible reality“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reate a B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2771640" y="5589720"/>
            <a:ext cx="345600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5914-C0D4-49EF-86F8-44B9986BCE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7920" y="556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. Decision taking tools from Contro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0436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sion taking process includes a business case prepared by the Controlling Departme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840" indent="-4107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t/profit comparison in one point of time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2840" indent="-4107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ounted Cash flow (methodology see MP10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4E0F-E800-4DA1-AA43-87BB8C3A3F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77920" y="556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. Cost/profit comparison in one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oint of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28036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ion of costs an profits of different alternatives and than choosing the cheapest or most profitabl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in a project we need a personal transport capacity for one year – the alternatives t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buy/sell again one car, o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to take private cars and to pay to the employees o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to take taxis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be calculated: the cheapest will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4362-94DF-44B8-9FCE-0A7E160FBA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77920" y="333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. Net present value (NP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70436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365400" indent="-365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ethod is taught to you in MP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ication of this method is various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320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of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320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ing between alternatives in finance (see project finance MP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320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ing between alternatives in a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320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of a uniqu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ence of the author (being 9 years CFO): DFC/NPV is a very often used method in day to day work and the only financial method he learned in the university which is really used regularly all the years 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13D4-8048-4A4F-9E7D-274645BFB0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92000" y="2779560"/>
            <a:ext cx="7236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. Quick Introduction to Net Present Value / Repetition of MP10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liennummernplatzhalt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9E77-8EA3-448A-B27C-1E0D82E528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2635200" y="1092240"/>
                <a:ext cx="38577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0" name="Rectangle 3"/>
          <p:cNvSpPr/>
          <p:nvPr/>
        </p:nvSpPr>
        <p:spPr>
          <a:xfrm>
            <a:off x="250920" y="474840"/>
            <a:ext cx="86202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2. What is </a:t>
            </a:r>
            <a:r>
              <a:rPr b="1" i="1" lang="en-AU" sz="37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239760" y="3691080"/>
            <a:ext cx="86263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t Present Value (NPV) is a standard method for the financial appraisal of long – term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244440" y="4529160"/>
            <a:ext cx="86266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t Present Value (NPV) is a present value of net cash flows (cash flows discounted back to its present valu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6"/>
          <p:cNvSpPr/>
          <p:nvPr/>
        </p:nvSpPr>
        <p:spPr>
          <a:xfrm>
            <a:off x="2579760" y="1341360"/>
            <a:ext cx="1160280" cy="8319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>
            <a:off x="3149640" y="2263680"/>
            <a:ext cx="0" cy="758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1979640" y="2994120"/>
            <a:ext cx="23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d81e05"/>
                </a:solidFill>
                <a:latin typeface="Arial"/>
              </a:rPr>
              <a:t>Net Pres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BFF3-0A8C-43DC-8B92-1A09D715AF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2635200" y="1195560"/>
                <a:ext cx="38577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8" name="Rectangle 3"/>
          <p:cNvSpPr/>
          <p:nvPr/>
        </p:nvSpPr>
        <p:spPr>
          <a:xfrm>
            <a:off x="250920" y="403200"/>
            <a:ext cx="862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2. What is </a:t>
            </a:r>
            <a:r>
              <a:rPr b="1" i="1" lang="en-AU" sz="37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44440" y="4529160"/>
            <a:ext cx="86266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ach net cash inflow (cash – in) or outflow (cash – out) is discounted back to its pres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5"/>
          <p:cNvSpPr/>
          <p:nvPr/>
        </p:nvSpPr>
        <p:spPr>
          <a:xfrm>
            <a:off x="4230720" y="981000"/>
            <a:ext cx="2120760" cy="20955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5294160" y="3338640"/>
            <a:ext cx="0" cy="7585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4121280" y="4214880"/>
            <a:ext cx="23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d81e05"/>
                </a:solidFill>
                <a:latin typeface="Arial"/>
              </a:rPr>
              <a:t>But 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250920" y="5425920"/>
            <a:ext cx="86263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n they are summ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liennummernplatzhalt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B173-3116-4896-B1B3-51D6526A1C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250920" y="331920"/>
            <a:ext cx="86202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2. What is </a:t>
            </a:r>
            <a:r>
              <a:rPr b="1" i="1" lang="en-AU" sz="37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"/>
          <p:cNvSpPr/>
          <p:nvPr/>
        </p:nvSpPr>
        <p:spPr>
          <a:xfrm>
            <a:off x="228600" y="1344600"/>
            <a:ext cx="86407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295200" y="919080"/>
            <a:ext cx="85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8000"/>
                </a:solidFill>
                <a:latin typeface="Arial"/>
              </a:rPr>
              <a:t>Cash in – cash out = Cash of a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64960" y="1496880"/>
            <a:ext cx="1062360" cy="474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1519200" y="1494000"/>
            <a:ext cx="1062000" cy="47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2766960" y="1494000"/>
            <a:ext cx="1062000" cy="47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4021200" y="1490760"/>
            <a:ext cx="1062000" cy="47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+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5272200" y="1484280"/>
            <a:ext cx="1062000" cy="474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+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6526080" y="1490760"/>
            <a:ext cx="1062000" cy="47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+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7773840" y="1490760"/>
            <a:ext cx="1062360" cy="47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+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2"/>
          <p:cNvSpPr/>
          <p:nvPr/>
        </p:nvSpPr>
        <p:spPr>
          <a:xfrm>
            <a:off x="2050920" y="1984320"/>
            <a:ext cx="0" cy="53964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3"/>
          <p:cNvSpPr/>
          <p:nvPr/>
        </p:nvSpPr>
        <p:spPr>
          <a:xfrm>
            <a:off x="3295800" y="1981080"/>
            <a:ext cx="0" cy="107964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4559400" y="1978200"/>
            <a:ext cx="0" cy="16189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5"/>
          <p:cNvSpPr/>
          <p:nvPr/>
        </p:nvSpPr>
        <p:spPr>
          <a:xfrm>
            <a:off x="5803920" y="1974960"/>
            <a:ext cx="0" cy="21589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6"/>
          <p:cNvSpPr/>
          <p:nvPr/>
        </p:nvSpPr>
        <p:spPr>
          <a:xfrm>
            <a:off x="7058160" y="1971720"/>
            <a:ext cx="0" cy="269856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7"/>
          <p:cNvSpPr/>
          <p:nvPr/>
        </p:nvSpPr>
        <p:spPr>
          <a:xfrm>
            <a:off x="8302680" y="1968480"/>
            <a:ext cx="0" cy="323856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8"/>
          <p:cNvSpPr/>
          <p:nvPr/>
        </p:nvSpPr>
        <p:spPr>
          <a:xfrm>
            <a:off x="1509840" y="2538360"/>
            <a:ext cx="106020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9"/>
          <p:cNvSpPr/>
          <p:nvPr/>
        </p:nvSpPr>
        <p:spPr>
          <a:xfrm>
            <a:off x="1509840" y="3078000"/>
            <a:ext cx="106020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0"/>
          <p:cNvSpPr/>
          <p:nvPr/>
        </p:nvSpPr>
        <p:spPr>
          <a:xfrm>
            <a:off x="1501920" y="2548080"/>
            <a:ext cx="10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 today’s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1"/>
          <p:cNvSpPr/>
          <p:nvPr/>
        </p:nvSpPr>
        <p:spPr>
          <a:xfrm>
            <a:off x="2782800" y="3078000"/>
            <a:ext cx="10605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2"/>
          <p:cNvSpPr/>
          <p:nvPr/>
        </p:nvSpPr>
        <p:spPr>
          <a:xfrm>
            <a:off x="2782800" y="3618000"/>
            <a:ext cx="10605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2774880" y="3087720"/>
            <a:ext cx="10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 today’s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4"/>
          <p:cNvSpPr/>
          <p:nvPr/>
        </p:nvSpPr>
        <p:spPr>
          <a:xfrm>
            <a:off x="4046400" y="3618000"/>
            <a:ext cx="10605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5"/>
          <p:cNvSpPr/>
          <p:nvPr/>
        </p:nvSpPr>
        <p:spPr>
          <a:xfrm>
            <a:off x="4046400" y="4157640"/>
            <a:ext cx="10605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4038480" y="3627360"/>
            <a:ext cx="10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 today’s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"/>
          <p:cNvSpPr/>
          <p:nvPr/>
        </p:nvSpPr>
        <p:spPr>
          <a:xfrm>
            <a:off x="5281560" y="4157640"/>
            <a:ext cx="10605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8"/>
          <p:cNvSpPr/>
          <p:nvPr/>
        </p:nvSpPr>
        <p:spPr>
          <a:xfrm>
            <a:off x="5281560" y="4697280"/>
            <a:ext cx="10605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9"/>
          <p:cNvSpPr/>
          <p:nvPr/>
        </p:nvSpPr>
        <p:spPr>
          <a:xfrm>
            <a:off x="5273640" y="4167360"/>
            <a:ext cx="10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 today’s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0"/>
          <p:cNvSpPr/>
          <p:nvPr/>
        </p:nvSpPr>
        <p:spPr>
          <a:xfrm>
            <a:off x="6545160" y="4697280"/>
            <a:ext cx="10605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1"/>
          <p:cNvSpPr/>
          <p:nvPr/>
        </p:nvSpPr>
        <p:spPr>
          <a:xfrm>
            <a:off x="6545160" y="5237280"/>
            <a:ext cx="10605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6537240" y="4707000"/>
            <a:ext cx="10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 today’s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3"/>
          <p:cNvSpPr/>
          <p:nvPr/>
        </p:nvSpPr>
        <p:spPr>
          <a:xfrm>
            <a:off x="7790040" y="5237280"/>
            <a:ext cx="106020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4"/>
          <p:cNvSpPr/>
          <p:nvPr/>
        </p:nvSpPr>
        <p:spPr>
          <a:xfrm>
            <a:off x="7790040" y="5776920"/>
            <a:ext cx="106020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7781760" y="5246640"/>
            <a:ext cx="10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 today’s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AutoShape 36"/>
          <p:cNvCxnSpPr>
            <a:stCxn id="383" idx="1"/>
            <a:endCxn id="368" idx="2"/>
          </p:cNvCxnSpPr>
          <p:nvPr/>
        </p:nvCxnSpPr>
        <p:spPr>
          <a:xfrm rot="10800000">
            <a:off x="797040" y="1980360"/>
            <a:ext cx="705240" cy="826200"/>
          </a:xfrm>
          <a:prstGeom prst="curvedConnector2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00" name="AutoShape 37"/>
          <p:cNvCxnSpPr>
            <a:stCxn id="386" idx="1"/>
            <a:endCxn id="368" idx="2"/>
          </p:cNvCxnSpPr>
          <p:nvPr/>
        </p:nvCxnSpPr>
        <p:spPr>
          <a:xfrm rot="10800000">
            <a:off x="796320" y="1980360"/>
            <a:ext cx="1978560" cy="1365840"/>
          </a:xfrm>
          <a:prstGeom prst="curvedConnector2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01" name="AutoShape 38"/>
          <p:cNvCxnSpPr>
            <a:stCxn id="389" idx="1"/>
            <a:endCxn id="368" idx="2"/>
          </p:cNvCxnSpPr>
          <p:nvPr/>
        </p:nvCxnSpPr>
        <p:spPr>
          <a:xfrm rot="10800000">
            <a:off x="796320" y="1980360"/>
            <a:ext cx="3242160" cy="1905840"/>
          </a:xfrm>
          <a:prstGeom prst="curvedConnector2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02" name="AutoShape 39"/>
          <p:cNvCxnSpPr>
            <a:stCxn id="392" idx="1"/>
            <a:endCxn id="368" idx="2"/>
          </p:cNvCxnSpPr>
          <p:nvPr/>
        </p:nvCxnSpPr>
        <p:spPr>
          <a:xfrm rot="10800000">
            <a:off x="796320" y="1980360"/>
            <a:ext cx="4477320" cy="2445480"/>
          </a:xfrm>
          <a:prstGeom prst="curvedConnector2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03" name="AutoShape 40"/>
          <p:cNvCxnSpPr>
            <a:stCxn id="395" idx="1"/>
            <a:endCxn id="368" idx="2"/>
          </p:cNvCxnSpPr>
          <p:nvPr/>
        </p:nvCxnSpPr>
        <p:spPr>
          <a:xfrm rot="10800000">
            <a:off x="796320" y="1980360"/>
            <a:ext cx="5740920" cy="2985480"/>
          </a:xfrm>
          <a:prstGeom prst="curvedConnector2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04" name="AutoShape 41"/>
          <p:cNvCxnSpPr>
            <a:stCxn id="398" idx="1"/>
            <a:endCxn id="368" idx="2"/>
          </p:cNvCxnSpPr>
          <p:nvPr/>
        </p:nvCxnSpPr>
        <p:spPr>
          <a:xfrm rot="10800000">
            <a:off x="796320" y="1980360"/>
            <a:ext cx="6985440" cy="3525120"/>
          </a:xfrm>
          <a:prstGeom prst="curvedConnector2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405" name="Text Box 42"/>
          <p:cNvSpPr/>
          <p:nvPr/>
        </p:nvSpPr>
        <p:spPr>
          <a:xfrm>
            <a:off x="322200" y="54388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8000"/>
                </a:solidFill>
                <a:latin typeface="Arial"/>
              </a:rPr>
              <a:t>Discounted Cash of all periods: </a:t>
            </a:r>
            <a:r>
              <a:rPr b="1" lang="en-AU" sz="2800" spc="-1" strike="noStrike">
                <a:solidFill>
                  <a:srgbClr val="008000"/>
                </a:solidFill>
                <a:latin typeface="Arial"/>
              </a:rPr>
              <a:t>NP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4"/>
          <p:cNvSpPr/>
          <p:nvPr/>
        </p:nvSpPr>
        <p:spPr>
          <a:xfrm>
            <a:off x="826920" y="1989000"/>
            <a:ext cx="108108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5"/>
          <p:cNvSpPr/>
          <p:nvPr/>
        </p:nvSpPr>
        <p:spPr>
          <a:xfrm rot="811800">
            <a:off x="3130200" y="4214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8000"/>
                </a:solidFill>
                <a:latin typeface="Arial"/>
              </a:rPr>
              <a:t>Discoun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liennummernplatzhalt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2996-C85A-4832-86B5-78A6E972FB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2635200" y="1330200"/>
                <a:ext cx="385776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0" name="Rectangle 3"/>
          <p:cNvSpPr/>
          <p:nvPr/>
        </p:nvSpPr>
        <p:spPr>
          <a:xfrm>
            <a:off x="250920" y="474840"/>
            <a:ext cx="86202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2 What is formula all about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39760" y="3346560"/>
            <a:ext cx="86263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t = the time of the net cas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244440" y="3822840"/>
            <a:ext cx="8626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N = the total project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250920" y="4305240"/>
            <a:ext cx="86263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r = the discount rate (the minimum rate that should be earned on the proj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247680" y="5210280"/>
            <a:ext cx="86263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AU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 = the net cash flow at the tim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99C3-4D0E-480D-81F0-61ED56FFF6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 to Werner Weteka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rn in 28.05.19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ying Economy in Dortmund and Cologne (Dipl. Kfm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D examination (Dr. rer. pol.) in 1997 in Cologne in Institute for Energy 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rt in RWE in August 198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4 different countries – the last 9 years in CZ and 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dership experience since 1998 – starting from 2002 till 08/2011: board member f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rmination in RWE after 27 years in 09/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most 10 years parallel work in Fachhochschule Dortm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rting from 01.09.2011 working for FH-Dortm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446040" y="451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 of all group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liennummernplatzhalt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808C-F429-4362-AC7D-9D9ABE060A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250920" y="331920"/>
            <a:ext cx="86202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2. When is </a:t>
            </a:r>
            <a:r>
              <a:rPr b="1" i="1" lang="en-AU" sz="3700" spc="-1" strike="noStrike">
                <a:solidFill>
                  <a:srgbClr val="000000"/>
                </a:solidFill>
                <a:latin typeface="Arial"/>
              </a:rPr>
              <a:t>NPV </a:t>
            </a: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used?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44440" y="905040"/>
            <a:ext cx="8626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t Present Value is typically used for two reas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250920" y="1376280"/>
            <a:ext cx="86263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ssessing the value of the projec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247680" y="1754280"/>
            <a:ext cx="86263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oosing which project gets priorit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438120" y="2166840"/>
            <a:ext cx="3960720" cy="3969000"/>
          </a:xfrm>
          <a:prstGeom prst="rect">
            <a:avLst/>
          </a:prstGeom>
          <a:solidFill>
            <a:srgbClr val="99ccff"/>
          </a:soli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4759200" y="2163600"/>
            <a:ext cx="3961080" cy="3969000"/>
          </a:xfrm>
          <a:prstGeom prst="rect">
            <a:avLst/>
          </a:prstGeom>
          <a:solidFill>
            <a:srgbClr val="ffff99"/>
          </a:solidFill>
          <a:ln w="64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484200" y="222264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jec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4815000" y="221940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jec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430200" y="2871720"/>
            <a:ext cx="8302680" cy="522360"/>
          </a:xfrm>
          <a:prstGeom prst="rect">
            <a:avLst/>
          </a:prstGeom>
          <a:solidFill>
            <a:srgbClr val="008000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ompare &amp; Contr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436680" y="3678120"/>
            <a:ext cx="8302680" cy="522360"/>
          </a:xfrm>
          <a:prstGeom prst="rect">
            <a:avLst/>
          </a:prstGeom>
          <a:solidFill>
            <a:srgbClr val="d81e05"/>
          </a:solidFill>
          <a:ln w="6480">
            <a:solidFill>
              <a:srgbClr val="d81e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Which one is bes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2"/>
          <p:cNvSpPr/>
          <p:nvPr/>
        </p:nvSpPr>
        <p:spPr>
          <a:xfrm>
            <a:off x="433440" y="4484520"/>
            <a:ext cx="8302680" cy="522360"/>
          </a:xfrm>
          <a:prstGeom prst="rect">
            <a:avLst/>
          </a:prstGeom>
          <a:solidFill>
            <a:srgbClr val="008000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osts &amp;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3"/>
          <p:cNvSpPr/>
          <p:nvPr/>
        </p:nvSpPr>
        <p:spPr>
          <a:xfrm>
            <a:off x="430200" y="5300640"/>
            <a:ext cx="8302680" cy="522360"/>
          </a:xfrm>
          <a:prstGeom prst="rect">
            <a:avLst/>
          </a:prstGeom>
          <a:solidFill>
            <a:srgbClr val="d81e05"/>
          </a:solidFill>
          <a:ln w="6480">
            <a:solidFill>
              <a:srgbClr val="d81e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s it worth our invest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A462-7773-40E7-B84A-6B70508C0C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250920" y="115920"/>
            <a:ext cx="862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When is </a:t>
            </a:r>
            <a:r>
              <a:rPr b="1" i="1" lang="en-AU" sz="3700" spc="-1" strike="noStrike">
                <a:solidFill>
                  <a:srgbClr val="000000"/>
                </a:solidFill>
                <a:latin typeface="Arial"/>
              </a:rPr>
              <a:t>NPV </a:t>
            </a: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used?</a:t>
            </a:r>
            <a:r>
              <a:rPr b="1" lang="pl-PL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244440" y="785880"/>
            <a:ext cx="8626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ne is better invest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6" descr="taxi"/>
          <p:cNvPicPr/>
          <p:nvPr/>
        </p:nvPicPr>
        <p:blipFill>
          <a:blip r:embed="rId1"/>
          <a:stretch/>
        </p:blipFill>
        <p:spPr>
          <a:xfrm>
            <a:off x="7442280" y="1663560"/>
            <a:ext cx="1439640" cy="14716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samochod"/>
          <p:cNvPicPr/>
          <p:nvPr/>
        </p:nvPicPr>
        <p:blipFill>
          <a:blip r:embed="rId2"/>
          <a:stretch/>
        </p:blipFill>
        <p:spPr>
          <a:xfrm>
            <a:off x="254160" y="16635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9"/>
          <p:cNvSpPr/>
          <p:nvPr/>
        </p:nvSpPr>
        <p:spPr>
          <a:xfrm>
            <a:off x="1776240" y="2063880"/>
            <a:ext cx="5597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wn a car or regularly travel by tax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0" descr="renting-main_full"/>
          <p:cNvPicPr/>
          <p:nvPr/>
        </p:nvPicPr>
        <p:blipFill>
          <a:blip r:embed="rId3"/>
          <a:stretch/>
        </p:blipFill>
        <p:spPr>
          <a:xfrm>
            <a:off x="239760" y="32781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11"/>
          <p:cNvSpPr/>
          <p:nvPr/>
        </p:nvSpPr>
        <p:spPr>
          <a:xfrm>
            <a:off x="1770120" y="3679920"/>
            <a:ext cx="5597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nt a house 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2" descr="gradcap"/>
          <p:cNvPicPr/>
          <p:nvPr/>
        </p:nvPicPr>
        <p:blipFill>
          <a:blip r:embed="rId4"/>
          <a:stretch/>
        </p:blipFill>
        <p:spPr>
          <a:xfrm>
            <a:off x="239760" y="484488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3" descr="runing"/>
          <p:cNvPicPr/>
          <p:nvPr/>
        </p:nvPicPr>
        <p:blipFill>
          <a:blip r:embed="rId5"/>
          <a:stretch/>
        </p:blipFill>
        <p:spPr>
          <a:xfrm>
            <a:off x="7442280" y="484488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14"/>
          <p:cNvSpPr/>
          <p:nvPr/>
        </p:nvSpPr>
        <p:spPr>
          <a:xfrm>
            <a:off x="1774800" y="5251320"/>
            <a:ext cx="55976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est in education or start working ea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5" descr="How-to-Build-a-House1"/>
          <p:cNvPicPr/>
          <p:nvPr/>
        </p:nvPicPr>
        <p:blipFill>
          <a:blip r:embed="rId6"/>
          <a:stretch/>
        </p:blipFill>
        <p:spPr>
          <a:xfrm>
            <a:off x="7442280" y="32781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AC14-88D3-4E86-9617-F290AC8E76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50920" y="115920"/>
            <a:ext cx="862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700" spc="-1" strike="noStrike">
                <a:solidFill>
                  <a:srgbClr val="000000"/>
                </a:solidFill>
                <a:latin typeface="Arial"/>
              </a:rPr>
              <a:t>2. NPV </a:t>
            </a: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in decision mak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244440" y="1033560"/>
            <a:ext cx="8626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PV is an indicator of how much value an investment or project adds to the 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237960" y="2397240"/>
            <a:ext cx="1325880" cy="40320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If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1758960" y="2394000"/>
            <a:ext cx="2359080" cy="40320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It mean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308480" y="2390760"/>
            <a:ext cx="4611600" cy="40320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The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244440" y="3098880"/>
            <a:ext cx="1325520" cy="76968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NPV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1765440" y="3095640"/>
            <a:ext cx="2358720" cy="77004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investment would add </a:t>
            </a:r>
            <a:br>
              <a:rPr sz="1600"/>
            </a:b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value to the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4314960" y="3092400"/>
            <a:ext cx="4611600" cy="77004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project may be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241200" y="4067280"/>
            <a:ext cx="1325520" cy="76968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NPV &l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1762200" y="4064040"/>
            <a:ext cx="2359080" cy="77004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investment would </a:t>
            </a:r>
            <a:br>
              <a:rPr sz="1600"/>
            </a:b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ubstract value </a:t>
            </a:r>
            <a:br>
              <a:rPr sz="1600"/>
            </a:b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from the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4311720" y="4060800"/>
            <a:ext cx="4611600" cy="77004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project should be rej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247680" y="5035680"/>
            <a:ext cx="1325520" cy="76968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NPV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1768320" y="5032440"/>
            <a:ext cx="2359080" cy="77004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investment would</a:t>
            </a:r>
            <a:br>
              <a:rPr sz="1600"/>
            </a:b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neither win nor loose</a:t>
            </a:r>
            <a:br>
              <a:rPr sz="1600"/>
            </a:b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value for the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4317840" y="5029200"/>
            <a:ext cx="4611960" cy="77004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we should be indifferent in the decision whether </a:t>
            </a:r>
            <a:br>
              <a:rPr sz="1600"/>
            </a:b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o accept or reject the project; the decision should </a:t>
            </a:r>
            <a:br>
              <a:rPr sz="1600"/>
            </a:b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be based on other (e.g. strategic)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liennummernplatzhalt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2D02-A9FF-4B8C-BB6D-56236C5CC3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"/>
          <p:cNvSpPr/>
          <p:nvPr/>
        </p:nvSpPr>
        <p:spPr>
          <a:xfrm>
            <a:off x="250920" y="474840"/>
            <a:ext cx="86202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2. What is </a:t>
            </a:r>
            <a:r>
              <a:rPr b="1" i="1" lang="en-AU" sz="3700" spc="-1" strike="noStrike">
                <a:solidFill>
                  <a:srgbClr val="000000"/>
                </a:solidFill>
                <a:latin typeface="Arial"/>
              </a:rPr>
              <a:t>IRR</a:t>
            </a: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244440" y="1704960"/>
            <a:ext cx="86266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ternal Rate of Return (IRR)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50920" y="2227320"/>
            <a:ext cx="86263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discount rate for which the NPV = 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247680" y="2604960"/>
            <a:ext cx="86263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mount (rate) you need to make your investment worthwhi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244440" y="3338640"/>
            <a:ext cx="8626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ased on different  factors like e.g. opportunity cost, value of money and ris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7"/>
              <p:cNvSpPr txBox="1"/>
              <p:nvPr/>
            </p:nvSpPr>
            <p:spPr>
              <a:xfrm>
                <a:off x="1744560" y="4089240"/>
                <a:ext cx="5693040" cy="15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</m:t>
                    </m:r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liennummernplatzhalt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80F0-205C-4B3F-9F9F-F0AD72420B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250920" y="474840"/>
            <a:ext cx="86202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2. Please calculate this exampl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250920" y="836640"/>
            <a:ext cx="84834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You are project manager of “new headquarter of your ABC Company”. You know well the current renting costs (24.000 Euro/month all cost inclusive) of your current building – the contract finishes in 12 month but you can prolong the contract for 10 years under the same conditions. All these costs increase with the inflation (predicted by 2 percent/year). </a:t>
            </a:r>
            <a:br>
              <a:rPr sz="1800"/>
            </a:b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You worked hard on the design of a new building with the same size and functionality. The investment would be ready in one years time if you decide now. You would invest 3 Mio Euro. The costs (electricity, heating…) are 20.000 Euro every 6 month. The move of the company to the new building would cost 500.000 Euro. The building and interior is designed for a use of 10 years.</a:t>
            </a:r>
            <a:br>
              <a:rPr sz="1800"/>
            </a:b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interest rate is 5% and there are no taxes. Depreciation rate is 5%. Go step by step in excel and don’t use the formulary of Excel but create the formulas on your own in all years</a:t>
            </a:r>
            <a:br>
              <a:rPr sz="1800"/>
            </a:br>
            <a:br>
              <a:rPr sz="1800"/>
            </a:b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at do you recommend to your board? What happens if you can use the house for 20 years and prolong the contract for 20 years as well?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BED7-9F72-4F42-ABEE-BBAF8C2448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Controlling supports the Project Calc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8036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 calculation is in client oriented projects (selling a bridge to a municipality, selling a software including implementation and training) the core of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decides to get the job or not (competi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decides to have profit or losses because the cost normally cannot be fixed before the project but the client fixes the price for the project befo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he target for the project team and decides at the end if the project is successful or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he basement of controlling – the structure and the content must be „controllable“ and follow some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n in not client oriented projects (creating a new marketing campaign, project of survey for employee satisfaction) the budget is limited and the costs are one of the main factors for success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36A3-E152-46CB-B431-B328D25F1D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Controlling supports the project calc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arket situation influences the calculation (new market entry on low profit base? Monopoly with high margin? Will additional business follow like maintenance: than lower margin possible!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use subcontractors can move risk to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ion of cost is needed in all cases of „own production“ because a project is unique. Used methods: expert opinion, copy old calculations (analogy), target costing, technical methods (based on part-/material-list for example), than: analysis of competitors, indirect/administrative costs, margin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ion goes in steps from „rough first idea“ until detailed official offer to a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 calculation must be so detailed at the end (phases – components) to be able to control during the project with IT-tools (e.g SAP P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alculation must be committed by all (Line manager, sales department, project manager, purchase department...) to move the calculation to be a target of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8F65-3D4E-44C5-9212-ED875DDEDF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 Controlling includes the control of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978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ment of the cost control is the above mentioned detailed stucture of the cost calculation (temporary cost centres, subprojects, phases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 control can be done by the project manager (small projects), the Project Office, the line managers, a Controlling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ide following the budget and the actual figures controlling means to work on solutions if problems and deviation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“ cost control (eg: 50% of the budget is used) is easy to apply but gives no real overview –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project has 10 steps with different time- and cost-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roject finished step 6 and used 80% of the project time and 90% of the cost 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n you evaluate if the project is on a good way or not? Maybe steps 7-10 are quick, easy and costless steps: good success! Maybe step 7 needed 40% of time and cost: no succes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ethod of „Earned Value Management“ (or Earned Value Analysis) is the standard tool for this control – it combines the project steps with cost control and with the tim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1470-80BE-4F41-B724-05DDE67C79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. Earned Valu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1280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ed Value Management” is an industry standar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a project’s progress and forecast its completion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th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chedule variances alo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integrating three measurements, it provides consistent, numerical indicators with which you can evaluate and compar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761F-F0D9-44BB-B2D6-9A42FAC251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. Earned Valu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 start with some definition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ork Breakdown Structure (WBS) = the detailed project steps (lowest level for planning and budgeting which together form the whole proje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dget at Completion (BAC) = the sum of all planned costs of all steps in the W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ned Costs (PC) = the cumulated planned costs until a defined WBS step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ual Costs (AC) = the cumulated actual costs in a defined or in the current mo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rned Value (EV) = the PC calculated on the basis of the currently fulfilled W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hedule Variance (SV) = EV in the moment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minus PV in the moment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alculated in Euro, if negative the project is currently behind the planned schedul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st Variance (CV) = EV in the moment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minus AC in the moment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calculated in Euro, if negative the project is currently above the planned cos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hedule Performance Index (SPI) = EV / PV in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if SPI &lt; 1 the project has a time d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st Performance Index (CPI) = EV / AC in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if CPI &lt; 1 the project is above the planned cost budg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imated at Completion 1 (EAC1) = AC + (BAC – EV) = AC + costs of the planned rest of the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imated at Completion 2 (EAC2) = AC + (BAC – EV)/CPI = AC + costs of the planned rest of the project adjusted with the actual „cost-behaviour“ visible in the C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imate to Completion (ETC) = (BAC – EV)/C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imated at Completion t (EA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 = planned total project duration / S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ance at Completion (VAC) = BAC – EA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C24E-9A97-4468-89AC-8E85E9AFF8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al of the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behind „Controlling“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 of Project Controlling in theory and praxis with the focus on cost cont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 and application of specifics project controlling methods and tools (e.g. DCF, Earned Value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7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42E0-55B6-41B4-ACFC-25D9D127B5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. Earned Valu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give an example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project is planned in 3 steps: first step: 0ne week duration with 100 Euro costs, second step 2 weeks duration with 400 Euro costs, third step two weeks with 200 Euro costs. After the project started 3 weeks ago the first two steps were now exactly fulfilled and 600 Euros were sp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 duration: 5 wee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dget at Completion (BAC) = 700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ned Costs (PC) after 3 weeks = 500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tual Costs (AC) after 3 weeks = 600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rned Value (EV) after 3 weeks = 500 Euro because the project is i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hedule Variance (SV) = 0 (in time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Variance (CV) = - 100 (above the budge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hedule Performance Index (SPI) = 1 (no time del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Performance Index (CPI) = 0,83 (the project is above the planned cost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imated at Completion 1 (EAC1) = 800 = 600 + 200 (step thre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imated at Completion 2 (EAC2) = 840 = 600 + 200/0,8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imate to Completion (ETC) = 1: 200 and 2: 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imated at Completion t (EAC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= 5 wee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riance at Completion (VAC) = BAC – EAC2 = -14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850D-AC83-4EE8-B088-588481B456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. Earned Valu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8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040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6BAE-33DA-45B5-9B12-8B46D4502E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. Earned Valu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ease calculate (and paint) all known terms and KPIs of Earned Value Management and comment to your boss the current project status in a few written sentences..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ridge has to be build. You are project leader and your WBS looks like th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of the bridge: 6 month – 1 Mio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ing the bridge: 6 month – 2 Mio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 the basement in the river and at the riverside: 12 month – 15 Mio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 the bridge – 12 month – 10 Mio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nect it with the streets on both sides – 6 month – 2 Mio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ical check and approval of state authority to open the bridge for secure usage – 1 month – 0,5 Mio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received the current project report after 36 month after the start. With these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:  30 Mio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:  32 Mio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DD7D-BB55-4EA0-B576-B3BD09C0DE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terature: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ease read and know in addition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MBOK Chapter 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MBOK Chapter 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MBOK Chapter 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MBOK Chapter 6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MBOK Chapter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MBOK Chapt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MBOK Chapter 1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B – IPMA Competence Baseline (selected chap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rzner Chapter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rzner Chapter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9A73-EEE5-40F7-8DFD-29F9E056FC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ing your 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5% related to your performance in the l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ticipation in the lecture (Evaluated by the tutor after every lectu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ticipation in the students work (Evaluation by the te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entation of the results (Evaluation by the tu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rete knowledge (Evaluation by the tu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5% related to your performance in the examination in the second half of Jan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 ECTS can be achie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508A-EB17-45B7-BBDD-B101196E10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.What is behind Contro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rzner (Project management,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üppers: 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rolling: Konzeption, Aufgaben, Instrumente,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o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stem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PI-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port of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 sett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1C72-59B7-4765-BAA2-3409E189DE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. What is behind Contro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ling is support of leading, steering, governing a project or an organisation to a financial target – it is not only checking, counting, finding mistak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ling is the core of success because it is defined as leading to the go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ple: counting the volume of sold products at the end of the day: 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ple: landing a Boing 407 in JFK New York: usage of instruments supported by controlling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ple: checking how much money we have in our pocket before you go out: part of 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ple: planning the financial performance of a project: part of 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ple: deciding to build the production hall or not: support by controlling (master of the too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ple: calculating the dollar-risk in your project: task of Controlling (four eyes princip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ling“ we call also the department responsible for controlling tasks (planning, forecast, risk management, decision support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DB65-ADFB-47E7-AC83-BFA8544485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Controlling as a part of the project man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353440" cy="3456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0"/>
          <p:cNvSpPr/>
          <p:nvPr/>
        </p:nvSpPr>
        <p:spPr>
          <a:xfrm>
            <a:off x="826920" y="4581360"/>
            <a:ext cx="39610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C1DA-6551-48AB-A81A-5F178934FA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Controlling as a part of the project management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etter is this descrip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2723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5:49:59Z</dcterms:created>
  <dc:creator>rx18163</dc:creator>
  <dc:description/>
  <dc:language>en-US</dc:language>
  <cp:lastModifiedBy>USER</cp:lastModifiedBy>
  <dcterms:modified xsi:type="dcterms:W3CDTF">2013-08-13T09:55:16Z</dcterms:modified>
  <cp:revision>40</cp:revision>
  <dc:subject/>
  <dc:title>Slide 1</dc:title>
</cp:coreProperties>
</file>